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FB6E-0D3F-4DD1-A405-F471746747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2547-C06A-46E7-A8A6-A591945E7F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CC6-A812-45C1-A457-5CE3DCB1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B87-0A26-49D2-AF60-EEA27CA9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7EC-2F88-42EB-B764-2B013C07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680-BAE1-4AB0-8286-548D4DC5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5C1-A1FD-41DC-ADEC-9840108D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18C-99A5-4DDA-B47C-A71EC1E2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2C0-3396-4AA3-8A42-E4CE3348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E68-B4CA-4BB6-97CA-34FE4427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DDE-9F9C-428B-A26C-E3267E14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4E5-4322-4FE8-8901-B533C86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1C6-5FE6-45A0-935B-0287236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6D6-43C5-4376-BC46-A3B4C3C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9DDC-A85E-496E-BA79-92E9B7A21C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608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本科研业务费项目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015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度结题验收汇报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034"/>
          <p:cNvSpPr/>
          <p:nvPr/>
        </p:nvSpPr>
        <p:spPr>
          <a:xfrm>
            <a:off x="3205440" y="5070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汇报人：      日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673080" y="37987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汇报提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立项目的及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取得主要成果及创新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考核指标完成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费使用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存在的问题及解决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下一步科研工作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考核指标完成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628640"/>
          <a:ext cx="8280360" cy="36277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论文发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利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国际合作交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级别项目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成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经费使用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6880" y="1341360"/>
          <a:ext cx="8421840" cy="5183280"/>
        </p:xfrm>
        <a:graphic>
          <a:graphicData uri="http://schemas.openxmlformats.org/drawingml/2006/table">
            <a:tbl>
              <a:tblPr/>
              <a:tblGrid>
                <a:gridCol w="658800"/>
                <a:gridCol w="2354400"/>
                <a:gridCol w="1190520"/>
                <a:gridCol w="1224000"/>
                <a:gridCol w="299412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科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经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要说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备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材料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测试化验加工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际合作与交流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会议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出版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文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知识产权事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2:29:51Z</dcterms:created>
  <dc:creator>Bowen</dc:creator>
  <dc:description/>
  <dc:language>en-US</dc:language>
  <cp:lastModifiedBy>Bowen</cp:lastModifiedBy>
  <dcterms:modified xsi:type="dcterms:W3CDTF">2015-11-26T06:25:28Z</dcterms:modified>
  <cp:revision>6</cp:revision>
  <dc:subject/>
  <dc:title>基本科研业务费项目 2015年度结题验收汇报</dc:title>
</cp:coreProperties>
</file>