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797-237C-49C3-B401-4E0C43D930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9560-A286-4DDA-9B31-4F487DBBAE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2A7-4564-4219-9DCD-C16C5546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40F-D5EA-4AD3-A9E1-03335AB4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9C4-425F-4690-A5FD-19F454E6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F9C-8275-487A-A86C-0594DD40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EAC-E6F5-435C-9579-D5F0223F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321-9983-429E-8CA7-825E5BAD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018-586B-4998-9041-C1577362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511-4FA1-4842-BAAD-8E53B220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2C0-8503-43B5-B44D-1B2191A4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4A2-2826-4BA0-9331-0D8FDE04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EE8-06F2-43B0-9FB6-12EC4442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C1F-0CA6-48A1-A28B-E8BBB963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17A3-59EC-4896-8C84-0C51CB4CD8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4608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本科研业务费项目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度进展汇报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034"/>
          <p:cNvSpPr/>
          <p:nvPr/>
        </p:nvSpPr>
        <p:spPr>
          <a:xfrm>
            <a:off x="3205440" y="50706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汇报人：      日期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3673080" y="37987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汇报提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920" y="126828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立项目的及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年度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项目主要进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年度取得主要成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经费使用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存在的问题及解决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下一步科研工作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06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本年度经费使用情况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项目总经费：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**</a:t>
            </a: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万元，本年度拨款：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**</a:t>
            </a: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万元，累计拨款：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**</a:t>
            </a: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6880" y="1341360"/>
          <a:ext cx="8421840" cy="5183280"/>
        </p:xfrm>
        <a:graphic>
          <a:graphicData uri="http://schemas.openxmlformats.org/drawingml/2006/table">
            <a:tbl>
              <a:tblPr/>
              <a:tblGrid>
                <a:gridCol w="658800"/>
                <a:gridCol w="2354400"/>
                <a:gridCol w="1190520"/>
                <a:gridCol w="1224000"/>
                <a:gridCol w="299412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科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经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支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要说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设备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材料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测试化验加工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差旅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国际合作与交流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出版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文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信息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知识产权事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劳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2:29:51Z</dcterms:created>
  <dc:creator>Bowen</dc:creator>
  <dc:description/>
  <dc:language>en-US</dc:language>
  <cp:lastModifiedBy>Windows User</cp:lastModifiedBy>
  <dcterms:modified xsi:type="dcterms:W3CDTF">2017-11-21T06:15:53Z</dcterms:modified>
  <cp:revision>9</cp:revision>
  <dc:subject/>
  <dc:title>基本科研业务费项目 2015年度结题验收汇报</dc:title>
</cp:coreProperties>
</file>