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B33-E1AB-46DF-A87B-23BF2DC290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56E8-9848-4C46-8745-405C02E562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15A-74CB-4013-A461-FB277D6A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985-64EF-4047-A894-9543853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44A-1A3A-41DF-8272-95B88F6D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830-0878-4028-8DD4-BACEA834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C4E-93BF-4BD0-9C04-C24BF07D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F85-4F44-4AB8-AABF-0069DAC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780-A923-4672-A675-3273E92B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9FA-88C3-422D-AE45-91AE450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192-636A-4026-BE77-CE20F9C8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D92-E0EF-47E5-8D9E-6795C03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230-1C81-492F-A6AB-19420C9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EFD-B66D-4BC7-8908-F46D4E0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E5CA-51ED-441B-963B-9E108381C2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结题验收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得主要成果及创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核指标完成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考核指标完成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628640"/>
          <a:ext cx="8280360" cy="3627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论文发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利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际合作交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级别项目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成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经费使用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劳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Bowen</cp:lastModifiedBy>
  <dcterms:modified xsi:type="dcterms:W3CDTF">2016-12-08T13:29:06Z</dcterms:modified>
  <cp:revision>8</cp:revision>
  <dc:subject/>
  <dc:title>基本科研业务费项目 2015年度结题验收汇报</dc:title>
</cp:coreProperties>
</file>